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16E-247A-4420-BFCD-0E28A71E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506-C73A-4DE6-881B-87C32504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49A-7BA9-4A54-9146-50C3B437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577-7400-45C3-AB16-F8F3AC6C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5074-BD99-4223-A5F6-6FB5D3BE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BB0-81E2-41C3-AEB0-722EFCE2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DBEC-8FFF-4D82-9541-D7FD1A96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CFF9-7964-4375-A31B-7ACD9C2D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BE9E-1A03-4C87-AAC5-6CD4A436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B0D-5714-40E7-A0FB-9CCBF048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8BD-7179-4D10-B500-8C0CF51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5F7-C8A3-4AF2-B244-80295D7B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EF15-7591-472A-AA87-9BD262E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26DF-6A8A-4EDC-A071-788696D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1145-8703-4EF6-9E69-578EE2E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5047-06D1-417E-ADE7-06D8795E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9B78-A3DA-4E8F-81B6-2EC7B96F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947-3625-480F-99C4-E640632C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F74-FEFE-4E5B-827C-58A4649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222-5204-4042-9CCC-6C0F50C8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8F4-AA8E-4B6D-9A22-74EE9EBD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CE0-9A59-4715-9A07-5058CD8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D09-030A-43BE-90F7-3B9A78D5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D3E-20B7-4772-94B8-ED46D5EE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69E7-843F-4A8F-9E45-ADF8CF603E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BA0-6F0A-4BCB-9697-1E6BE966C6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2.png"/><Relationship Id="rId9" Type="http://schemas.openxmlformats.org/officeDocument/2006/relationships/slide" Target="slide33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4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" Target="slide17.xml"/><Relationship Id="rId7" Type="http://schemas.openxmlformats.org/officeDocument/2006/relationships/image" Target="../media/image4.wmf"/><Relationship Id="rId8" Type="http://schemas.openxmlformats.org/officeDocument/2006/relationships/slide" Target="slide33.xml"/><Relationship Id="rId9" Type="http://schemas.openxmlformats.org/officeDocument/2006/relationships/image" Target="../media/image2.png"/><Relationship Id="rId10" Type="http://schemas.openxmlformats.org/officeDocument/2006/relationships/slide" Target="slide33.xml"/><Relationship Id="rId1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6.xm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7.xm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8.xm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9.xm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0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1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2.xm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4.xm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.png"/><Relationship Id="rId7" Type="http://schemas.openxmlformats.org/officeDocument/2006/relationships/slide" Target="slide17.xml"/><Relationship Id="rId8" Type="http://schemas.openxmlformats.org/officeDocument/2006/relationships/image" Target="../media/image4.wmf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5.xm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6.xm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685800"/>
            <a:ext cx="27432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23880" y="609480"/>
            <a:ext cx="3962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Who Wants To B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 Millionaire??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7920" y="761760"/>
            <a:ext cx="495324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9 for $16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Is Pip happy that Herbert calls him Han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We don’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He doesn’t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e is quite thank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6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6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457200" y="4724280"/>
            <a:ext cx="3962520" cy="1219320"/>
            <a:chOff x="457200" y="4724280"/>
            <a:chExt cx="3962520" cy="1219320"/>
          </a:xfrm>
        </p:grpSpPr>
        <p:sp>
          <p:nvSpPr>
            <p:cNvPr id="27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>
            <a:hlinkClick r:id="rId8" action="ppaction://hlinksldjump"/>
          </p:cNvPr>
          <p:cNvSpPr/>
          <p:nvPr/>
        </p:nvSpPr>
        <p:spPr>
          <a:xfrm>
            <a:off x="4038480" y="34290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9" action="ppaction://hlinksldjump"/>
          </p:cNvPr>
          <p:cNvSpPr/>
          <p:nvPr/>
        </p:nvSpPr>
        <p:spPr>
          <a:xfrm>
            <a:off x="6553080" y="3352680"/>
            <a:ext cx="1524240" cy="838440"/>
          </a:xfrm>
          <a:custGeom>
            <a:avLst/>
            <a:gdLst>
              <a:gd name="textAreaLeft" fmla="*/ 54360 w 1524240"/>
              <a:gd name="textAreaRight" fmla="*/ 1469880 w 15242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60" h="21600">
                <a:moveTo>
                  <a:pt x="0" y="0"/>
                </a:moveTo>
                <a:lnTo>
                  <a:pt x="39260" y="0"/>
                </a:lnTo>
                <a:lnTo>
                  <a:pt x="39260" y="21600"/>
                </a:lnTo>
                <a:lnTo>
                  <a:pt x="0" y="21600"/>
                </a:lnTo>
                <a:close/>
              </a:path>
              <a:path fill="lightenLess" w="39260" h="21600">
                <a:moveTo>
                  <a:pt x="0" y="0"/>
                </a:moveTo>
                <a:lnTo>
                  <a:pt x="39260" y="0"/>
                </a:lnTo>
                <a:lnTo>
                  <a:pt x="37860" y="1400"/>
                </a:lnTo>
                <a:lnTo>
                  <a:pt x="1400" y="1400"/>
                </a:lnTo>
                <a:close/>
              </a:path>
              <a:path fill="darken" w="39260" h="21600">
                <a:moveTo>
                  <a:pt x="39260" y="0"/>
                </a:moveTo>
                <a:lnTo>
                  <a:pt x="39260" y="21600"/>
                </a:lnTo>
                <a:lnTo>
                  <a:pt x="37860" y="20200"/>
                </a:lnTo>
                <a:lnTo>
                  <a:pt x="37860" y="1400"/>
                </a:lnTo>
                <a:close/>
              </a:path>
              <a:path fill="darkenLess" w="39260" h="21600">
                <a:moveTo>
                  <a:pt x="39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0" y="20200"/>
                </a:lnTo>
                <a:close/>
              </a:path>
              <a:path fill="lighten" w="39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115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105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0 for $32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is Pip afraid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He does no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5486400"/>
            <a:ext cx="41907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A childhood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He got h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e was threate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8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8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29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>
            <a:hlinkClick r:id="rId8" action="ppaction://hlinksldjump"/>
          </p:cNvPr>
          <p:cNvSpPr/>
          <p:nvPr/>
        </p:nvSpPr>
        <p:spPr>
          <a:xfrm>
            <a:off x="38862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9" action="ppaction://hlinksldjump"/>
          </p:cNvPr>
          <p:cNvSpPr/>
          <p:nvPr/>
        </p:nvSpPr>
        <p:spPr>
          <a:xfrm>
            <a:off x="6553080" y="3429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15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240" y="761760"/>
            <a:ext cx="51814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1 for $64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ere does Pip go after getting of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iss Havisha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The mar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0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0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312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38862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9" action="ppaction://hlinksldjump"/>
          </p:cNvPr>
          <p:cNvSpPr/>
          <p:nvPr/>
        </p:nvSpPr>
        <p:spPr>
          <a:xfrm>
            <a:off x="662940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115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09320" y="685440"/>
            <a:ext cx="541044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2 for $125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2209680"/>
            <a:ext cx="807732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How is the newspaper describ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Di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Dirty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Old di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2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2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332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>
            <a:hlinkClick r:id="rId8" action="ppaction://hlinksldjump"/>
          </p:cNvPr>
          <p:cNvSpPr/>
          <p:nvPr/>
        </p:nvSpPr>
        <p:spPr>
          <a:xfrm>
            <a:off x="3809880" y="3352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115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48640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3 for $250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05120"/>
            <a:ext cx="8001000" cy="99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takes credit for the rise of Pip as gentle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iss Havis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Bid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Pumblech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4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4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457200" y="4724280"/>
            <a:ext cx="3962520" cy="1219320"/>
            <a:chOff x="457200" y="4724280"/>
            <a:chExt cx="3962520" cy="1219320"/>
          </a:xfrm>
        </p:grpSpPr>
        <p:sp>
          <p:nvSpPr>
            <p:cNvPr id="35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38862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9" action="ppaction://hlinksldjump"/>
          </p:cNvPr>
          <p:cNvSpPr/>
          <p:nvPr/>
        </p:nvSpPr>
        <p:spPr>
          <a:xfrm>
            <a:off x="662940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115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4560" y="685800"/>
            <a:ext cx="5411520" cy="75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4 for $500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828800"/>
            <a:ext cx="80010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is the convict describing when he says, “mudbank, mist, swamp, and work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He doesn’t say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Pip’s home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6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6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457200" y="4724280"/>
            <a:ext cx="8153280" cy="457200"/>
            <a:chOff x="457200" y="4724280"/>
            <a:chExt cx="8153280" cy="457200"/>
          </a:xfrm>
        </p:grpSpPr>
        <p:sp>
          <p:nvSpPr>
            <p:cNvPr id="372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>
            <a:hlinkClick r:id="rId8" action="ppaction://hlinksldjump"/>
          </p:cNvPr>
          <p:cNvSpPr/>
          <p:nvPr/>
        </p:nvSpPr>
        <p:spPr>
          <a:xfrm>
            <a:off x="396252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115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410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5 for $1 Mill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19810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O YOU WANT $1 MILL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YES YES YE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I don’t think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No t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4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I’ll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8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8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0" name="" descr=""/>
          <p:cNvPicPr/>
          <p:nvPr/>
        </p:nvPicPr>
        <p:blipFill>
          <a:blip r:embed="rId8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39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9" action="ppaction://hlinksldjump"/>
          </p:cNvPr>
          <p:cNvSpPr/>
          <p:nvPr/>
        </p:nvSpPr>
        <p:spPr>
          <a:xfrm>
            <a:off x="3962520" y="342900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10" action="ppaction://hlinksldjump"/>
          </p:cNvPr>
          <p:cNvSpPr/>
          <p:nvPr/>
        </p:nvSpPr>
        <p:spPr>
          <a:xfrm>
            <a:off x="6629400" y="3429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4115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Ask the Audienc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1523880" y="1676520"/>
          <a:ext cx="6248520" cy="30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624852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7467480" y="61722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>
            <a:off x="7467480" y="60199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7493"/>
                </a:moveTo>
                <a:lnTo>
                  <a:pt x="18093" y="7493"/>
                </a:lnTo>
                <a:lnTo>
                  <a:pt x="18093" y="12828"/>
                </a:lnTo>
                <a:cubicBezTo>
                  <a:pt x="18093" y="13751"/>
                  <a:pt x="18893" y="14482"/>
                  <a:pt x="19929" y="14482"/>
                </a:cubicBezTo>
                <a:lnTo>
                  <a:pt x="21592" y="14482"/>
                </a:lnTo>
                <a:cubicBezTo>
                  <a:pt x="22627" y="14482"/>
                  <a:pt x="23428" y="13751"/>
                  <a:pt x="23428" y="12828"/>
                </a:cubicBezTo>
                <a:lnTo>
                  <a:pt x="23428" y="7493"/>
                </a:lnTo>
                <a:lnTo>
                  <a:pt x="21592" y="7493"/>
                </a:lnTo>
                <a:lnTo>
                  <a:pt x="25099" y="3985"/>
                </a:lnTo>
                <a:lnTo>
                  <a:pt x="28772" y="7493"/>
                </a:lnTo>
                <a:lnTo>
                  <a:pt x="26936" y="7493"/>
                </a:lnTo>
                <a:lnTo>
                  <a:pt x="26936" y="12828"/>
                </a:lnTo>
                <a:cubicBezTo>
                  <a:pt x="26936" y="15596"/>
                  <a:pt x="24359" y="18155"/>
                  <a:pt x="21592" y="18155"/>
                </a:cubicBezTo>
                <a:lnTo>
                  <a:pt x="19929" y="18155"/>
                </a:lnTo>
                <a:cubicBezTo>
                  <a:pt x="17161" y="18155"/>
                  <a:pt x="14585" y="15596"/>
                  <a:pt x="14585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895480" y="619200"/>
            <a:ext cx="39052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733920" y="155268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3886200" y="2209680"/>
            <a:ext cx="1995480" cy="37339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6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29040" y="69516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62360" y="1628640"/>
            <a:ext cx="2257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2167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267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 for $1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286000"/>
            <a:ext cx="815364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does not wish for Joe to come to Lond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P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Her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Drumm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00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6477120" y="3352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486400"/>
            <a:ext cx="8153280" cy="457200"/>
            <a:chOff x="457200" y="5486400"/>
            <a:chExt cx="8153280" cy="457200"/>
          </a:xfrm>
        </p:grpSpPr>
        <p:sp>
          <p:nvSpPr>
            <p:cNvPr id="106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grpSp>
          <p:nvGrpSpPr>
            <p:cNvPr id="109" name=""/>
            <p:cNvGrpSpPr/>
            <p:nvPr/>
          </p:nvGrpSpPr>
          <p:grpSpPr>
            <a:xfrm>
              <a:off x="3733920" y="3276720"/>
              <a:ext cx="1676160" cy="914400"/>
              <a:chOff x="3733920" y="3276720"/>
              <a:chExt cx="1676160" cy="914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733920" y="3276720"/>
                <a:ext cx="1676160" cy="9144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4800" y="3352680"/>
                <a:ext cx="939960" cy="67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>
              <a:hlinkClick r:id="rId8" action="ppaction://hlinksldjump"/>
            </p:cNvPr>
            <p:cNvSpPr/>
            <p:nvPr/>
          </p:nvSpPr>
          <p:spPr>
            <a:xfrm>
              <a:off x="4038480" y="3429000"/>
              <a:ext cx="1143000" cy="609480"/>
            </a:xfrm>
            <a:custGeom>
              <a:avLst/>
              <a:gdLst>
                <a:gd name="textAreaLeft" fmla="*/ 39240 w 1143000"/>
                <a:gd name="textAreaRight" fmla="*/ 1103760 w 11430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40497" h="21600">
                  <a:moveTo>
                    <a:pt x="0" y="0"/>
                  </a:moveTo>
                  <a:lnTo>
                    <a:pt x="40497" y="0"/>
                  </a:lnTo>
                  <a:lnTo>
                    <a:pt x="40497" y="21600"/>
                  </a:lnTo>
                  <a:lnTo>
                    <a:pt x="0" y="21600"/>
                  </a:lnTo>
                  <a:close/>
                </a:path>
                <a:path fill="lightenLess" w="40497" h="21600">
                  <a:moveTo>
                    <a:pt x="0" y="0"/>
                  </a:moveTo>
                  <a:lnTo>
                    <a:pt x="40497" y="0"/>
                  </a:lnTo>
                  <a:lnTo>
                    <a:pt x="39097" y="1400"/>
                  </a:lnTo>
                  <a:lnTo>
                    <a:pt x="1400" y="1400"/>
                  </a:lnTo>
                  <a:close/>
                </a:path>
                <a:path fill="darken" w="40497" h="21600">
                  <a:moveTo>
                    <a:pt x="40497" y="0"/>
                  </a:moveTo>
                  <a:lnTo>
                    <a:pt x="40497" y="21600"/>
                  </a:lnTo>
                  <a:lnTo>
                    <a:pt x="39097" y="20200"/>
                  </a:lnTo>
                  <a:lnTo>
                    <a:pt x="39097" y="1400"/>
                  </a:lnTo>
                  <a:close/>
                </a:path>
                <a:path fill="darkenLess" w="40497" h="21600">
                  <a:moveTo>
                    <a:pt x="404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097" y="20200"/>
                  </a:lnTo>
                  <a:close/>
                </a:path>
                <a:path fill="lighten" w="404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3809880" y="3352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8120" y="69516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38680" y="155268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4038480" y="2133720"/>
            <a:ext cx="1905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43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4038480" y="2057400"/>
            <a:ext cx="182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4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8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79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3886200" y="2057400"/>
            <a:ext cx="194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2,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2,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8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8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4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4267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2 for $2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286000"/>
            <a:ext cx="815364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oes Joe wipe his feet when he comes to vis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45720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We don’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86400"/>
            <a:ext cx="40384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22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655308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grpSp>
          <p:nvGrpSpPr>
            <p:cNvPr id="129" name=""/>
            <p:cNvGrpSpPr/>
            <p:nvPr/>
          </p:nvGrpSpPr>
          <p:grpSpPr>
            <a:xfrm>
              <a:off x="3733920" y="3276720"/>
              <a:ext cx="1676160" cy="914400"/>
              <a:chOff x="3733920" y="3276720"/>
              <a:chExt cx="1676160" cy="914400"/>
            </a:xfrm>
          </p:grpSpPr>
          <p:sp>
            <p:nvSpPr>
              <p:cNvPr id="130" name=""/>
              <p:cNvSpPr/>
              <p:nvPr/>
            </p:nvSpPr>
            <p:spPr>
              <a:xfrm>
                <a:off x="3733920" y="3276720"/>
                <a:ext cx="1676160" cy="9144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4800" y="3352680"/>
                <a:ext cx="939960" cy="67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>
              <a:hlinkClick r:id="rId9" action="ppaction://hlinksldjump"/>
            </p:cNvPr>
            <p:cNvSpPr/>
            <p:nvPr/>
          </p:nvSpPr>
          <p:spPr>
            <a:xfrm>
              <a:off x="4038480" y="3429000"/>
              <a:ext cx="1143000" cy="609480"/>
            </a:xfrm>
            <a:custGeom>
              <a:avLst/>
              <a:gdLst>
                <a:gd name="textAreaLeft" fmla="*/ 39240 w 1143000"/>
                <a:gd name="textAreaRight" fmla="*/ 1103760 w 11430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40497" h="21600">
                  <a:moveTo>
                    <a:pt x="0" y="0"/>
                  </a:moveTo>
                  <a:lnTo>
                    <a:pt x="40497" y="0"/>
                  </a:lnTo>
                  <a:lnTo>
                    <a:pt x="40497" y="21600"/>
                  </a:lnTo>
                  <a:lnTo>
                    <a:pt x="0" y="21600"/>
                  </a:lnTo>
                  <a:close/>
                </a:path>
                <a:path fill="lightenLess" w="40497" h="21600">
                  <a:moveTo>
                    <a:pt x="0" y="0"/>
                  </a:moveTo>
                  <a:lnTo>
                    <a:pt x="40497" y="0"/>
                  </a:lnTo>
                  <a:lnTo>
                    <a:pt x="39097" y="1400"/>
                  </a:lnTo>
                  <a:lnTo>
                    <a:pt x="1400" y="1400"/>
                  </a:lnTo>
                  <a:close/>
                </a:path>
                <a:path fill="darken" w="40497" h="21600">
                  <a:moveTo>
                    <a:pt x="40497" y="0"/>
                  </a:moveTo>
                  <a:lnTo>
                    <a:pt x="40497" y="21600"/>
                  </a:lnTo>
                  <a:lnTo>
                    <a:pt x="39097" y="20200"/>
                  </a:lnTo>
                  <a:lnTo>
                    <a:pt x="39097" y="1400"/>
                  </a:lnTo>
                  <a:close/>
                </a:path>
                <a:path fill="darkenLess" w="40497" h="21600">
                  <a:moveTo>
                    <a:pt x="404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097" y="20200"/>
                  </a:lnTo>
                  <a:close/>
                </a:path>
                <a:path fill="lighten" w="404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724280"/>
            <a:ext cx="8077320" cy="1219320"/>
            <a:chOff x="457200" y="4724280"/>
            <a:chExt cx="8077320" cy="1219320"/>
          </a:xfrm>
        </p:grpSpPr>
        <p:sp>
          <p:nvSpPr>
            <p:cNvPr id="134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>
            <a:hlinkClick r:id="rId10" action="ppaction://hlinksldjump"/>
          </p:cNvPr>
          <p:cNvSpPr/>
          <p:nvPr/>
        </p:nvSpPr>
        <p:spPr>
          <a:xfrm>
            <a:off x="3884760" y="3271680"/>
            <a:ext cx="1444320" cy="841680"/>
          </a:xfrm>
          <a:custGeom>
            <a:avLst/>
            <a:gdLst>
              <a:gd name="textAreaLeft" fmla="*/ 54360 w 1444320"/>
              <a:gd name="textAreaRight" fmla="*/ 1389960 w 1444320"/>
              <a:gd name="textAreaTop" fmla="*/ 54360 h 841680"/>
              <a:gd name="textAreaBottom" fmla="*/ 787320 h 841680"/>
            </a:gdLst>
            <a:ahLst/>
            <a:rect l="textAreaLeft" t="textAreaTop" r="textAreaRight" b="textAreaBottom"/>
            <a:pathLst>
              <a:path w="37059" h="21600">
                <a:moveTo>
                  <a:pt x="0" y="0"/>
                </a:moveTo>
                <a:lnTo>
                  <a:pt x="37059" y="0"/>
                </a:lnTo>
                <a:lnTo>
                  <a:pt x="37059" y="21600"/>
                </a:lnTo>
                <a:lnTo>
                  <a:pt x="0" y="21600"/>
                </a:lnTo>
                <a:close/>
              </a:path>
              <a:path fill="lightenLess" w="37059" h="21600">
                <a:moveTo>
                  <a:pt x="0" y="0"/>
                </a:moveTo>
                <a:lnTo>
                  <a:pt x="37059" y="0"/>
                </a:lnTo>
                <a:lnTo>
                  <a:pt x="35659" y="1400"/>
                </a:lnTo>
                <a:lnTo>
                  <a:pt x="1400" y="1400"/>
                </a:lnTo>
                <a:close/>
              </a:path>
              <a:path fill="darken" w="37059" h="21600">
                <a:moveTo>
                  <a:pt x="37059" y="0"/>
                </a:moveTo>
                <a:lnTo>
                  <a:pt x="37059" y="21600"/>
                </a:lnTo>
                <a:lnTo>
                  <a:pt x="35659" y="20200"/>
                </a:lnTo>
                <a:lnTo>
                  <a:pt x="35659" y="1400"/>
                </a:lnTo>
                <a:close/>
              </a:path>
              <a:path fill="darkenLess" w="37059" h="21600">
                <a:moveTo>
                  <a:pt x="37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9" y="20200"/>
                </a:lnTo>
                <a:close/>
              </a:path>
              <a:path fill="lighten" w="37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200" y="54864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313"/>
                </a:solidFill>
                <a:latin typeface="Times New Roman"/>
              </a:rPr>
              <a:t>D. Excessively, in Pip’s 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1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4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04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3276720"/>
            <a:ext cx="2210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3886200" y="2133720"/>
            <a:ext cx="1981080" cy="39621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324480" y="3276720"/>
            <a:ext cx="2210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hone a Friend!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3880" y="2666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tudent in class would you like to ask for hel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7493"/>
                </a:moveTo>
                <a:lnTo>
                  <a:pt x="16738" y="7493"/>
                </a:lnTo>
                <a:lnTo>
                  <a:pt x="16738" y="12828"/>
                </a:lnTo>
                <a:cubicBezTo>
                  <a:pt x="16738" y="13751"/>
                  <a:pt x="17538" y="14482"/>
                  <a:pt x="18574" y="14482"/>
                </a:cubicBezTo>
                <a:lnTo>
                  <a:pt x="20236" y="14482"/>
                </a:lnTo>
                <a:cubicBezTo>
                  <a:pt x="21272" y="14482"/>
                  <a:pt x="22073" y="13751"/>
                  <a:pt x="22073" y="12828"/>
                </a:cubicBezTo>
                <a:lnTo>
                  <a:pt x="22073" y="7493"/>
                </a:lnTo>
                <a:lnTo>
                  <a:pt x="20236" y="7493"/>
                </a:lnTo>
                <a:lnTo>
                  <a:pt x="23744" y="3985"/>
                </a:lnTo>
                <a:lnTo>
                  <a:pt x="27417" y="7493"/>
                </a:lnTo>
                <a:lnTo>
                  <a:pt x="25581" y="7493"/>
                </a:lnTo>
                <a:lnTo>
                  <a:pt x="25581" y="12828"/>
                </a:lnTo>
                <a:cubicBezTo>
                  <a:pt x="25581" y="15596"/>
                  <a:pt x="23004" y="18155"/>
                  <a:pt x="20236" y="18155"/>
                </a:cubicBezTo>
                <a:lnTo>
                  <a:pt x="18574" y="18155"/>
                </a:lnTo>
                <a:cubicBezTo>
                  <a:pt x="15806" y="18155"/>
                  <a:pt x="13230" y="15596"/>
                  <a:pt x="13230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’m Sorry!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9880" y="2514600"/>
            <a:ext cx="536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at is not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rrect answ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520" y="823680"/>
            <a:ext cx="4038480" cy="623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Arial"/>
              </a:rPr>
              <a:t>Question 3 for $300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0"/>
            <a:ext cx="815328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does Joe give to Pip pertaining to Wops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A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A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A playb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45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150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457200" y="4724280"/>
            <a:ext cx="3962520" cy="1219320"/>
            <a:chOff x="457200" y="4724280"/>
            <a:chExt cx="3962520" cy="1219320"/>
          </a:xfrm>
        </p:grpSpPr>
        <p:sp>
          <p:nvSpPr>
            <p:cNvPr id="154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>
            <a:hlinkClick r:id="rId8" action="ppaction://hlinksldjump"/>
          </p:cNvPr>
          <p:cNvSpPr/>
          <p:nvPr/>
        </p:nvSpPr>
        <p:spPr>
          <a:xfrm>
            <a:off x="3886200" y="3352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9" action="ppaction://hlinksldjump"/>
          </p:cNvPr>
          <p:cNvSpPr/>
          <p:nvPr/>
        </p:nvSpPr>
        <p:spPr>
          <a:xfrm>
            <a:off x="6629400" y="34290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1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267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4 for $5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286000"/>
            <a:ext cx="807732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does Herbert offer to Jo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Tea or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is so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65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8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170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648320" y="4724280"/>
            <a:ext cx="3962160" cy="1219320"/>
            <a:chOff x="4648320" y="4724280"/>
            <a:chExt cx="3962160" cy="1219320"/>
          </a:xfrm>
        </p:grpSpPr>
        <p:sp>
          <p:nvSpPr>
            <p:cNvPr id="174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11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4648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5 for $1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828800"/>
            <a:ext cx="807732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tells Joe that Miss Havisham would like to speak with h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Bid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Miss Havis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Ja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Pumblech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8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18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192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3962520" y="34290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1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4648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6 for $2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057400"/>
            <a:ext cx="80010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ere does Pip first set up to go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His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He doesn’t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Miss Havisha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0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0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21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>
            <a:hlinkClick r:id="rId8" action="ppaction://hlinksldjump"/>
          </p:cNvPr>
          <p:cNvSpPr/>
          <p:nvPr/>
        </p:nvSpPr>
        <p:spPr>
          <a:xfrm>
            <a:off x="396252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11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90560" y="761760"/>
            <a:ext cx="464796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7 for $4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ere does he decide to go inst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iss Havisha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4100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4648320" y="54100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He doesn’t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is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2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2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4648320" y="4724280"/>
            <a:ext cx="3962160" cy="1143000"/>
            <a:chOff x="4648320" y="4724280"/>
            <a:chExt cx="3962160" cy="1143000"/>
          </a:xfrm>
        </p:grpSpPr>
        <p:sp>
          <p:nvSpPr>
            <p:cNvPr id="232" name=""/>
            <p:cNvSpPr/>
            <p:nvPr/>
          </p:nvSpPr>
          <p:spPr>
            <a:xfrm>
              <a:off x="4648320" y="54100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rId8" action="ppaction://hlinksldjump"/>
          </p:cNvPr>
          <p:cNvSpPr/>
          <p:nvPr/>
        </p:nvSpPr>
        <p:spPr>
          <a:xfrm>
            <a:off x="396252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1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66880" y="762120"/>
            <a:ext cx="4648320" cy="68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8 for $8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800100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is the convict (we have met before) in the co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ysterious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Wem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There wasn’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“Pip’s Convic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4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4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57200" y="5486400"/>
            <a:ext cx="8153280" cy="457200"/>
            <a:chOff x="457200" y="5486400"/>
            <a:chExt cx="8153280" cy="457200"/>
          </a:xfrm>
        </p:grpSpPr>
        <p:sp>
          <p:nvSpPr>
            <p:cNvPr id="25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>
            <a:hlinkClick r:id="rId8" action="ppaction://hlinksldjump"/>
          </p:cNvPr>
          <p:cNvSpPr/>
          <p:nvPr/>
        </p:nvSpPr>
        <p:spPr>
          <a:xfrm>
            <a:off x="388620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9" action="ppaction://hlinksldjump"/>
          </p:cNvPr>
          <p:cNvSpPr/>
          <p:nvPr/>
        </p:nvSpPr>
        <p:spPr>
          <a:xfrm>
            <a:off x="6553080" y="3429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115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SD</cp:lastModifiedBy>
  <dcterms:modified xsi:type="dcterms:W3CDTF">2009-03-05T17:37:12Z</dcterms:modified>
  <cp:revision>54</cp:revision>
  <dc:subject/>
  <dc:title>PowerPoint Presentation</dc:title>
</cp:coreProperties>
</file>